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11D-7831-4111-A9F3-D4FCCAEE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CC1-25CB-46EF-B1F5-C5150D25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460-1823-4960-85FD-CE5B369D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40E-14B5-47D0-B091-EF782DCC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0B14-680B-4C77-9265-392AC6C8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B16D-16A8-43C7-87C3-71BF206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FD38-11D0-49CF-8206-1F69D36E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3850-FED3-49A1-BA25-082FD50A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19F8-C1D1-4756-A6BA-1DA580BA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EE13-5B1B-47E4-B922-A811453F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E351-E048-4BC1-976F-E045EFDC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8F9-7723-4A00-8B98-E5CBBDA3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93A3-4ED5-4EA7-8FB9-F1C8A4C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A072-8BB6-4761-A697-24C70DC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1E06-D88A-4852-BC75-88EB5E9D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4B50-7FBD-4A80-B883-A2A985F3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CB96-B7EC-4FEB-8097-88C5B199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F2F-F18F-4B09-92F9-EF658A9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615-7F68-4E77-8D0D-BEF46071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E8B-643E-4416-8AF2-93515A2B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5C3-675D-4758-9EC5-2F6C61E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2C7-EBC6-4167-ADCA-BE8626B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5EC-F16F-4810-85FA-AFA8392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CBB-6A84-4380-A6AA-1826098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E1A1-6F73-4267-A3E2-515AE2FA81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FFF9-D74B-4273-8E83-2060CE64ACF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MANAGEMENT OF BACTERIAL KIDNEY DISEASE WITH THE “NEW” KIRKEGAARD AND PERRY ANTI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3098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berta Scott, Douglas Munson,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ith John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1760" y="149400"/>
          <a:ext cx="8886960" cy="66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9400"/>
                    <a:ext cx="8886960" cy="66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ELISAantigencapture" descr=""/>
          <p:cNvPicPr/>
          <p:nvPr/>
        </p:nvPicPr>
        <p:blipFill>
          <a:blip r:embed="rId1"/>
          <a:stretch/>
        </p:blipFill>
        <p:spPr>
          <a:xfrm>
            <a:off x="2646360" y="833400"/>
            <a:ext cx="3851280" cy="5189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253760" y="4689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ating 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0600" y="385128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BKD Anti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87080" y="156528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jug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5480" y="3459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lor Re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905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68580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419720" y="350424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4010400" y="456768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7621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92"/>
                </a:moveTo>
                <a:lnTo>
                  <a:pt x="144" y="288"/>
                </a:lnTo>
                <a:lnTo>
                  <a:pt x="144" y="432"/>
                </a:lnTo>
                <a:lnTo>
                  <a:pt x="240" y="384"/>
                </a:lnTo>
                <a:lnTo>
                  <a:pt x="432" y="384"/>
                </a:lnTo>
                <a:lnTo>
                  <a:pt x="384" y="240"/>
                </a:lnTo>
                <a:lnTo>
                  <a:pt x="432" y="144"/>
                </a:lnTo>
                <a:lnTo>
                  <a:pt x="192" y="0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685800"/>
            <a:ext cx="961920" cy="914400"/>
          </a:xfrm>
          <a:prstGeom prst="star5">
            <a:avLst/>
          </a:prstGeom>
          <a:solidFill>
            <a:srgbClr val="93ea8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 1996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UPPLIES OF BATCH 1 ANTIBODIES PRODUCED BY KPL WERE DEPLE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PL PRODUCED THE BATCH 2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SECOND GROUP OF REAGENTS PRODUCED ELISA OPTICAL DENSITIES THAT WERE INCONSISTENT WITH BATCH 1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PL ANTIBODY TIMEL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0’S TO 1996:  KPL BATCH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96 TO 2003:  KPL BATCH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003:  NEW K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031760"/>
          <a:ext cx="914400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9144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2320" y="304920"/>
            <a:ext cx="43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KPL Antibodies:  Good Vs. B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0"/>
          <a:ext cx="901368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6440" y="68400"/>
          <a:ext cx="8934480" cy="67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8400"/>
                    <a:ext cx="893448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629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NFHPC 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68400" y="303120"/>
          <a:ext cx="9001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3120"/>
                    <a:ext cx="9001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DFG EXPECTS A CULLING RATE OF 10% STATEWIDE 200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TH FORK TRAP:  5.92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WELL TRAP:  12.07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WATER:  19.84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WTOOTH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WORSHAK NFH:  7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PID RIVER:  13.4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HSIMEROI:  0.9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WIDE MEAN:  10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CLUSIONS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EW (2003) KPL COATING AND CONJUGATED ANTIBODIES ARE EQUIVALENT TO THE FIRST REAG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DFG HAS UTILIZED THESE REAGENTS DURING 2003 CHINOOK SPAW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800" y="228600"/>
            <a:ext cx="327672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BKD%20Fish" descr=""/>
          <p:cNvPicPr/>
          <p:nvPr/>
        </p:nvPicPr>
        <p:blipFill>
          <a:blip r:embed="rId1"/>
          <a:srcRect l="3333" t="0" r="0" b="7515"/>
          <a:stretch/>
        </p:blipFill>
        <p:spPr>
          <a:xfrm>
            <a:off x="0" y="1090440"/>
            <a:ext cx="9059760" cy="576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5400" y="130320"/>
            <a:ext cx="33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BKD LES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1066680"/>
            <a:ext cx="84582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Thanks and Appreciation to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on Pascho,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orothy Chase, 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agle Laboratory Staf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Kimberly True, USF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Peterson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Strom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slie Lindsay, ODF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fish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PRIOR TO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TOOK A 60 FISH SAMPLE DURING CHINOOK SPAWNING USING DF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D NOT UTILIZE CULLING OR SEGREGATION TO MINIMIZE VERTICAL TRANSMISSION OF BK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PIZOOTICS OF BKD IN JUVENILE CHINOOK SALM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0"/>
            <a:ext cx="586728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FAT%20of%20BKD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0"/>
            <a:ext cx="5918040" cy="581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BKD Fluorescent Antibody 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HAS PROVIDED AN INTEGRATED MANAGEMENT PROGRAM TO LIMIT LOSSES TO BK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ISA-BASED CULLING AND SEGREG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SO INTRAPERITONEAL INJECTIONS OF ADULTS WITH ERYTHROMYC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ODOPHOR DISINFECTION OF EG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HYLACTIC ERYTHROMYCIN MEDICATED FEED TREATMEN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S LIMITED BKD EPIZOOTICS TO HIGH BKD SEGREGATION GROUP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D-HATCH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24560" cy="662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219320" y="2857680"/>
            <a:ext cx="2458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000" y="2487600"/>
            <a:ext cx="24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808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Idaho Department of Fish and Gam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3840" y="914400"/>
            <a:ext cx="20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Fish Hatcheri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457880"/>
            <a:ext cx="30456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3048120"/>
            <a:ext cx="195120" cy="1648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1" y="0"/>
                </a:moveTo>
                <a:cubicBezTo>
                  <a:pt x="2" y="16"/>
                  <a:pt x="0" y="33"/>
                  <a:pt x="5" y="48"/>
                </a:cubicBezTo>
                <a:cubicBezTo>
                  <a:pt x="7" y="54"/>
                  <a:pt x="16" y="54"/>
                  <a:pt x="20" y="58"/>
                </a:cubicBezTo>
                <a:cubicBezTo>
                  <a:pt x="33" y="71"/>
                  <a:pt x="42" y="85"/>
                  <a:pt x="58" y="96"/>
                </a:cubicBezTo>
                <a:cubicBezTo>
                  <a:pt x="67" y="131"/>
                  <a:pt x="63" y="124"/>
                  <a:pt x="92" y="139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12680" y="93600"/>
          <a:ext cx="8982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93600"/>
                    <a:ext cx="8982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28520" y="112680"/>
          <a:ext cx="87822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12680"/>
                    <a:ext cx="87822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27:50Z</dcterms:created>
  <dc:creator>idfg</dc:creator>
  <dc:description/>
  <dc:language>en-US</dc:language>
  <cp:lastModifiedBy>idfg</cp:lastModifiedBy>
  <dcterms:modified xsi:type="dcterms:W3CDTF">2003-11-26T21:56:18Z</dcterms:modified>
  <cp:revision>19</cp:revision>
  <dc:subject/>
  <dc:title>MANAGEMENT OF BACTERIAL KIDNEY DISEASE WITH THE “NEW” KIRKEGAARD AND PERRY ANTIBODIES</dc:title>
</cp:coreProperties>
</file>